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857-7BBA-408B-BCB5-03F72B1378C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C1A-C2AA-4C3E-8BC7-625AB5F634A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F4F0-7F70-4CE0-B729-9226994EF0F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2CDE-973E-4FC4-A144-53A124CC5E2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B9DF-63C7-4A22-998B-B7C9574794F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541-E9B3-4A1F-BFC3-63293AB413A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5082-2F07-45A9-9339-98C11546994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D90C-8AF5-47C2-835B-F92C15F3020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1227-E6E8-422D-AF92-2564E1956E8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B75-A7CB-472A-96DB-6315EF39AA2D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DBEE-95B6-4AC8-976A-A49F84F860D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194-C4CE-45DE-BB25-AE5344929DB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6B3-1274-41E8-B398-DF44FEBE3F7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5AD-37DD-447E-8D55-2017CD7BA00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C5FD-B580-4ECC-9E5B-9EE576E23F9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EB4-DDD9-4E71-8F46-D03EA2F1C59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A515-2B45-4387-AE30-FBD3E3C1DA9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76E5-3936-4E7B-A77C-E3370640E0E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20F-15AF-4536-B271-9221A8BFEDC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0DA0-646C-4AB5-9E3D-14B55FF4A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1A88-F82C-45EA-8E41-9A32416B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B3E0-1CA0-4D90-9A97-96C5CB8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A03D-99EB-433C-886C-9BC09DD2E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82D-8AF3-45B9-B137-4A7EB881EB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BD9-594A-4CC2-866D-AD1ECF6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56D-BB84-458B-B5F5-FC9B4D79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AE8-0821-4DCD-A9BC-28FFEA5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D8E-D5A5-4513-90E9-6834F870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2A7-A504-4C0F-912A-34757B8D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545-8170-49E3-A997-F14A87F3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5717-4444-47F2-8516-147F6602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A0F-DE64-4178-B12B-A09B6CD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A2A-771B-4FCE-9025-A55C1EF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A11-C0E1-4B02-B84B-B70754E9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87F-E0AE-46BB-AC24-08E066D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3C4-84A8-4782-95C6-F3AF94CB4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285F-4837-43A7-B09A-E62E9E0E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08DC-80D3-40B4-851D-29BDC19A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0A8-1349-4E8A-9122-8AC2D6B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6D3F-D699-4825-8144-C4AD8DB7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21C-0F9C-4096-9E3B-7BFD7756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0445-3034-4013-8477-57E56FD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137-C405-4FA1-AF7A-D910F4B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6F01-7594-4E8F-B21D-FC0339F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6771-6311-43A2-B658-E15312B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21A6-CDFB-4E40-BFB9-B3EE27C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DC4-FB9F-44FD-AB7E-F88E133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A8E5-C1D7-476B-931E-1416380D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28AA-3281-400C-8095-B21D65A0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9B9A-7DB5-4625-8E5D-62C0F7C1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B86B-220A-4313-8EC2-A23B7395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28B3-DFE4-440E-B3BD-E8AF5586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B74F-74BB-40BE-BCC3-504BDCC4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7007-69DE-4DDE-98F8-90E4768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BF65-93FF-4087-826B-E421AF9E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4B7-380C-4753-AD03-BFFCDBE95D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EB5E-2061-4EDA-B492-9D0371F111F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ril 29-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D287-B6B4-45EE-8651-71E0440E4E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7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5 Technical Consulting Meeting for EMR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?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igh Performance I/O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A3D1-F18A-4067-BB18-663D3EBD563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Good and The Ugly: Reading a r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5605-1439-49E0-BFBC-A1EB4AEAF8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0000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0000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00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00007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404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6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6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790D-75D4-42C2-BA2D-8C75981CEF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93F-08CF-4252-AE70-F61AC1A5A6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raw data chunk cache parameters for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Pset_chunk_cache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raw data chunk cache parameters for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ll datasets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Pset_cache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0, rdcc_nslots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418E-36EA-444D-A2D8-1B240AF83B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541-627F-4C42-A549-EEA9E6DEBD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x100x100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byte inte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dom values 0-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x100x100 chunks (20 tot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nk size: 2 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entire dataset using 1x100x100 sl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ces are written sequenti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cache size 1MB (default) compared with chunk cache size is  5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Date Placeholder 2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9313-F004-4F19-A7C6-CC2A08FE9B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000 sl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size ~ 2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size ~ 40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lane ~ 40K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905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906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907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908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909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Date Placeholder 2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797-5934-4A7F-9EE1-2F67CE5911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 disk accesses to write 1000 pl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size written 40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5712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dataset with contiguous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Date Placeholder 2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C48-93A9-402A-B514-03D806F06F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is filled in cache  and then written to d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disk accesses are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size written 40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Date Placeholder 2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03E-5FE2-4B44-AB3C-965F0CC6A0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44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B009-348C-40F3-9378-7B2D4A071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7f7f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Straight Arrow Connector 66"/>
          <p:cNvCxnSpPr>
            <a:endCxn id="964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7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8" name="Frame 68"/>
          <p:cNvSpPr/>
          <p:nvPr/>
        </p:nvSpPr>
        <p:spPr>
          <a:xfrm>
            <a:off x="2362320" y="5334120"/>
            <a:ext cx="2209680" cy="121896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Elbow Connector 72"/>
          <p:cNvCxnSpPr>
            <a:stCxn id="962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Date Placeholder 2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B98D-DF68-4839-AB54-6DCC26735E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68C3-B940-4502-8F58-C69DBC3B3F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6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7" name="Frame 35"/>
          <p:cNvSpPr/>
          <p:nvPr/>
        </p:nvSpPr>
        <p:spPr>
          <a:xfrm>
            <a:off x="2741760" y="4210200"/>
            <a:ext cx="2209680" cy="213336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2" name="Elbow Connector 40"/>
          <p:cNvCxnSpPr>
            <a:stCxn id="984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93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0000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2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A3D4-21AC-4A2C-9ECD-8AEB10E692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Chunk doesn’t  fit into cac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ll chunk with the first plane, compress, write to a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 each new plane (49 pla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0"/>
                </a:solidFill>
                <a:latin typeface="Calibri"/>
              </a:rPr>
              <a:t>Read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hunk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ll chunk with the pl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0"/>
                </a:solidFill>
                <a:latin typeface="Calibri"/>
              </a:rPr>
              <a:t>Writ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hunk to a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disk accesses 20 x(1+2x49)=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data written and read ? (see next slid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HDF5 can probably detect such behavior and increase cache siz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Date Placeholder 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C4E4-1B8D-4473-A382-170B84DF2F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Date Placeholder 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3BA-A2F8-4F0E-A558-48FCEF5FFC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466560" y="1981080"/>
          <a:ext cx="8229600" cy="1114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2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457200" y="4267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BB22-B5EF-4393-BEB7-1B43186937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D6E-F410-4FF1-8538-919E87A5A1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5 MB cache size, the chunk is written only after it is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stically reduces the number of I/O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the amount of data that must be written (and re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processing time, especially with the compression fi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1448-3E17-4266-AF19-448A39960A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make sure that a chunk will fit into the raw data chunk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ill be writing to multiple chunks at once, you should increase the cache size even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design chunk dimensions to minimize the number you will be writing to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BAF1-AAFA-4B43-AB58-F6FBDDEB4B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the same dataset, again by slices, but the slices cross through all the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orientations for read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e includes fastest changing dim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e does not include fastest changing dim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total read operations, and total size 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sizes of 50x100x100, and 10x100x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B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5E7-C3F3-41CD-8322-15F81EA0F5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sl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tical and horizo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eeece1">
              <a:alpha val="81000"/>
            </a:srgbClr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Diagonal Stripe 44"/>
          <p:cNvSpPr/>
          <p:nvPr/>
        </p:nvSpPr>
        <p:spPr>
          <a:xfrm rot="10800000">
            <a:off x="5571720" y="2286000"/>
            <a:ext cx="1538280" cy="1447920"/>
          </a:xfrm>
          <a:prstGeom prst="pie">
            <a:avLst/>
          </a:pr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7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0000c1"/>
            </a:solidFill>
            <a:miter/>
            <a:tailEnd len="med" type="triangle" w="med"/>
          </a:ln>
        </p:spPr>
      </p:cxnSp>
      <p:cxnSp>
        <p:nvCxnSpPr>
          <p:cNvPr id="1048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0000c1"/>
            </a:solidFill>
            <a:miter/>
            <a:tailEnd len="med" type="triangle" w="med"/>
          </a:ln>
        </p:spPr>
      </p:cxnSp>
      <p:cxnSp>
        <p:nvCxnSpPr>
          <p:cNvPr id="1049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0000c1"/>
            </a:solidFill>
            <a:miter/>
            <a:tailEnd len="med" type="triangle" w="med"/>
          </a:ln>
        </p:spPr>
      </p:cxnSp>
      <p:cxnSp>
        <p:nvCxnSpPr>
          <p:cNvPr id="1050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0000c1"/>
            </a:solidFill>
            <a:miter/>
            <a:tailEnd len="med" type="triangle" w="med"/>
          </a:ln>
        </p:spPr>
      </p:cxnSp>
      <p:sp>
        <p:nvSpPr>
          <p:cNvPr id="1051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3795-8A86-4508-820E-BB5F30576B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6854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peat 100 times for each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eat 1000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ad a 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ek to the beginning of the next r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Diagonal Stripe 44"/>
          <p:cNvSpPr/>
          <p:nvPr/>
        </p:nvSpPr>
        <p:spPr>
          <a:xfrm rot="10800000">
            <a:off x="6791040" y="3124080"/>
            <a:ext cx="1538280" cy="1447920"/>
          </a:xfrm>
          <a:prstGeom prst="pie">
            <a:avLst/>
          </a:pr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7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8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8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8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BCA-DE79-49D9-ADD4-AE5C16A993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68544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mpression; chunk fits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 each plane (100 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20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doesn’t fit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is read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fi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9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10</a:t>
            </a:r>
            <a:r>
              <a:rPr b="0" lang="en-US" sz="2400" spc="-1" strike="noStrike" baseline="30000">
                <a:solidFill>
                  <a:srgbClr val="00009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k ac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6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Diagonal Stripe 44"/>
          <p:cNvSpPr/>
          <p:nvPr/>
        </p:nvSpPr>
        <p:spPr>
          <a:xfrm rot="10800000">
            <a:off x="6943320" y="2590560"/>
            <a:ext cx="1538280" cy="1447560"/>
          </a:xfrm>
          <a:prstGeom prst="pie">
            <a:avLst/>
          </a:pr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9D4B-76C1-4F60-BF14-1CA63FD6E2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68544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Cache size doesn’t matter in this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ad chunk, uncomp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tract 50 r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2000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6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Diagonal Stripe 44"/>
          <p:cNvSpPr/>
          <p:nvPr/>
        </p:nvSpPr>
        <p:spPr>
          <a:xfrm rot="10800000">
            <a:off x="6943320" y="3124080"/>
            <a:ext cx="1538280" cy="1447920"/>
          </a:xfrm>
          <a:prstGeom prst="pie">
            <a:avLst/>
          </a:pr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2F77-A154-4B01-B20E-1252802224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Date Placeholder 5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F82-8820-41C3-BF32-7FD3BF5938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slice includes fastest changing dim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948a54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01E-9FCA-4CE5-818F-48E9C3580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-3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peat for each plane (100 tot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eat for each column (1000 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Repeat for each element (100 tot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eeece1">
              <a:alpha val="81000"/>
            </a:srgbClr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8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179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Straight Arrow Connector 38"/>
          <p:cNvCxnSpPr>
            <a:endCxn id="117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184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185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9F6-F7B0-4235-96FF-B395B14AC4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mpression; chunk fits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 each plane (100 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2000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unk doesn’t fit into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is read direct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fi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0"/>
                </a:solidFill>
                <a:latin typeface="Calibri"/>
              </a:rPr>
              <a:t>10</a:t>
            </a:r>
            <a:r>
              <a:rPr b="0" lang="en-US" sz="2200" spc="-1" strike="noStrike" baseline="30000">
                <a:solidFill>
                  <a:srgbClr val="00009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isk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eeece1">
              <a:alpha val="81000"/>
            </a:srgbClr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Date Placeholder 5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8E6-C625-4355-A720-B5EAF3C14E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ion; </a:t>
            </a: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cache size doesn’t ma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 each plane (100 to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or each chunk (20 tot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2000 disk ac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eeece1">
              <a:alpha val="81000"/>
            </a:srgbClr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1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948a54"/>
            </a:solidFill>
            <a:prstDash val="lgDash"/>
            <a:miter/>
            <a:tailEnd len="med" type="triangle" w="med"/>
          </a:ln>
        </p:spPr>
      </p:cxnSp>
      <p:sp>
        <p:nvSpPr>
          <p:cNvPr id="1262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944B-D20D-491E-A218-7436FA0C93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slic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5315-8E02-48C8-B553-61C75A3790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68544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3D5-D6DC-4001-B5C8-BECCC3AFD9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ad cache size does not matter when compression is enabl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compression, the cache must be large enough to hold all of the chunks  to get good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timum cache size depends on the exact shape of the data, as well as the hardware, as well as access patt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941-ED03-4BA8-98E3-1F263996C0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40040" y="2305080"/>
            <a:ext cx="34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CFFA-3C5C-42B6-AC02-C04B5188DF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333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5197-9A4E-4EE5-BEE7-4F30AD07AF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CFEA-E55C-425A-9F95-BCC2E1000A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B7DE-6D11-41C0-B4B4-BF7327A73F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5AE9-145A-4350-BE0F-A5D175054D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8f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9999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848-AB71-4733-BCAC-A522F05844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22:08:00Z</dcterms:created>
  <dc:creator>Ruth Aydt</dc:creator>
  <dc:description/>
  <dc:language>en-US</dc:language>
  <cp:lastModifiedBy>Anastasia Alexov</cp:lastModifiedBy>
  <cp:lastPrinted>2010-07-07T19:59:32Z</cp:lastPrinted>
  <dcterms:modified xsi:type="dcterms:W3CDTF">2010-09-14T08:03:23Z</dcterms:modified>
  <cp:revision>190</cp:revision>
  <dc:subject/>
  <dc:title>Slide 1</dc:title>
</cp:coreProperties>
</file>